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12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7.wmf" ContentType="image/x-wmf"/>
  <Override PartName="/ppt/media/image6.wmf" ContentType="image/x-wmf"/>
  <Override PartName="/ppt/media/image5.png" ContentType="image/png"/>
  <Override PartName="/ppt/media/whoosh.wav" ContentType="audio/x-wav"/>
  <Override PartName="/ppt/media/image13.wmf" ContentType="image/x-wmf"/>
  <Override PartName="/ppt/media/image4.wmf" ContentType="image/x-wmf"/>
  <Override PartName="/ppt/media/image3.png" ContentType="image/png"/>
  <Override PartName="/ppt/media/image11.wmf" ContentType="image/x-wmf"/>
  <Override PartName="/ppt/media/carbrake.wav" ContentType="audio/x-wav"/>
  <Override PartName="/ppt/media/image1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camera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type.wav" ContentType="audio/x-wav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949-3D74-4B0F-A07C-1878AC84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1E3-BE71-4A13-A5D4-751CCB20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731-56F6-4A37-949E-D25929CD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AE1-8863-4C3B-9843-5E6CB838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B69F-0B1E-405E-B98F-89CA3D5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ADB9-64CB-48AA-B666-51E03162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2677-95F6-482F-83F2-EC892C8D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8102-47C9-42E1-A293-95B9C298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1CC7-74F3-471C-BA6C-0F0F2454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4D2C-C6D6-4C6A-BB2C-65E6F2E4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5693-2736-4A97-92A5-4AF5D7F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0CE-4474-4854-9AAF-7BF79762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F711-9A65-4F84-88DC-92E49D6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153-CD20-4F13-8B8C-43FEF6E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47C3-32C6-4504-B24A-24BAB31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7E1-42DE-470A-BA0C-9CE163A2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4808-D33D-4A88-873F-D9E1024E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157-05C1-4F26-A6B1-6A85F29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037-D0F7-4AFA-B7D4-56F98D7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45E-EBB0-4CD7-B50A-CC4EAFF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6A2-5A80-493B-8588-47B1AA0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A5B-DE6B-4C78-8BFF-1B264F5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40B-C81F-4F78-AA62-13AC5CB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09E-6E1E-48FB-90CE-1A1648A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2B23-9D0D-4EE5-A135-2F574B15610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F33B-FEBE-4DF0-82BD-2E81BC0E243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audio" Target="file:///tmp/home/.config/libreoffice/4/user/gallery/warnlite.wav" TargetMode="External"/><Relationship Id="rId4" Type="http://schemas.microsoft.com/office/2007/relationships/media" Target="file:///tmp/home/.config/libreoffice/4/user/gallery/warnlit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carbrake.wav"/><Relationship Id="rId16" Type="http://schemas.openxmlformats.org/officeDocument/2006/relationships/audio" Target="../media/carbrake.wav"/><Relationship Id="rId17" Type="http://schemas.openxmlformats.org/officeDocument/2006/relationships/audio" Target="../media/carbrake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audio" Target="file:///tmp/home/.config/libreoffice/4/user/gallery/inshock.wav" TargetMode="External"/><Relationship Id="rId4" Type="http://schemas.microsoft.com/office/2007/relationships/media" Target="file:///tmp/home/.config/libreoffice/4/user/gallery/inshock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audio" Target="file:///tmp/home/.config/libreoffice/4/user/gallery/rodney.wav" TargetMode="External"/><Relationship Id="rId4" Type="http://schemas.microsoft.com/office/2007/relationships/media" Target="file:///tmp/home/.config/libreoffice/4/user/gallery/rodney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audio" Target="file:///tmp/home/.config/libreoffice/4/user/gallery/puleeze.wav" TargetMode="External"/><Relationship Id="rId4" Type="http://schemas.microsoft.com/office/2007/relationships/media" Target="file:///tmp/home/.config/libreoffice/4/user/gallery/puleez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audio" Target="file:///tmp/home/.config/libreoffice/4/user/gallery/housprob.wav" TargetMode="External"/><Relationship Id="rId4" Type="http://schemas.microsoft.com/office/2007/relationships/media" Target="file:///tmp/home/.config/libreoffice/4/user/gallery/housprob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audio" Target="file:///tmp/home/.config/libreoffice/4/user/gallery/screwey.wav" TargetMode="External"/><Relationship Id="rId4" Type="http://schemas.microsoft.com/office/2007/relationships/media" Target="file:///tmp/home/.config/libreoffice/4/user/gallery/screwe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worse.wav" TargetMode="External"/><Relationship Id="rId4" Type="http://schemas.microsoft.com/office/2007/relationships/media" Target="file:///tmp/home/.config/libreoffice/4/user/gallery/wors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badfeel2.wav" TargetMode="External"/><Relationship Id="rId4" Type="http://schemas.microsoft.com/office/2007/relationships/media" Target="file:///tmp/home/.config/libreoffice/4/user/gallery/badfeel2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audio" Target="file:///tmp/home/.config/libreoffice/4/user/gallery/dontthnk.wav" TargetMode="External"/><Relationship Id="rId4" Type="http://schemas.microsoft.com/office/2007/relationships/media" Target="file:///tmp/home/.config/libreoffice/4/user/gallery/dontthnk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audio" Target="file:///tmp/home/.config/libreoffice/4/user/gallery/speechls.wav" TargetMode="External"/><Relationship Id="rId4" Type="http://schemas.microsoft.com/office/2007/relationships/media" Target="file:///tmp/home/.config/libreoffice/4/user/gallery/speechls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audio" Target="file:///tmp/home/.config/libreoffice/4/user/gallery/popquiz.wav" TargetMode="External"/><Relationship Id="rId4" Type="http://schemas.microsoft.com/office/2007/relationships/media" Target="file:///tmp/home/.config/libreoffice/4/user/gallery/popquiz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audio" Target="file:///tmp/home/.config/libreoffice/4/user/gallery/fact1.wav" TargetMode="External"/><Relationship Id="rId4" Type="http://schemas.microsoft.com/office/2007/relationships/media" Target="file:///tmp/home/.config/libreoffice/4/user/gallery/fact1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audio" Target="file:///tmp/home/.config/libreoffice/4/user/gallery/perhaps.wav" TargetMode="External"/><Relationship Id="rId4" Type="http://schemas.microsoft.com/office/2007/relationships/media" Target="file:///tmp/home/.config/libreoffice/4/user/gallery/perhap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audio" Target="file:///tmp/home/.config/libreoffice/4/user/gallery/hibaby.wav" TargetMode="External"/><Relationship Id="rId4" Type="http://schemas.microsoft.com/office/2007/relationships/media" Target="file:///tmp/home/.config/libreoffice/4/user/gallery/hibab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audio" Target="file:///tmp/home/.config/libreoffice/4/user/gallery/ohjoy.wav" TargetMode="External"/><Relationship Id="rId4" Type="http://schemas.microsoft.com/office/2007/relationships/media" Target="file:///tmp/home/.config/libreoffice/4/user/gallery/ohjo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audio" Target="file:///tmp/home/.config/libreoffice/4/user/gallery/stufterb.wav" TargetMode="External"/><Relationship Id="rId4" Type="http://schemas.microsoft.com/office/2007/relationships/media" Target="file:///tmp/home/.config/libreoffice/4/user/gallery/stufterb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audio" Target="file:///tmp/home/.config/libreoffice/4/user/gallery/hooha!.wav" TargetMode="External"/><Relationship Id="rId4" Type="http://schemas.microsoft.com/office/2007/relationships/media" Target="file:///tmp/home/.config/libreoffice/4/user/gallery/hooha!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audio" Target="file:///tmp/home/.config/libreoffice/4/user/gallery/shezzam.wav" TargetMode="External"/><Relationship Id="rId4" Type="http://schemas.microsoft.com/office/2007/relationships/media" Target="file:///tmp/home/.config/libreoffice/4/user/gallery/shezzam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arbrake.wav" TargetMode="External"/><Relationship Id="rId4" Type="http://schemas.microsoft.com/office/2007/relationships/media" Target="file:///tmp/home/.config/libreoffice/4/user/gallery/carbrake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audio" Target="file:///tmp/home/.config/libreoffice/4/user/gallery/elgetout.wav" TargetMode="External"/><Relationship Id="rId4" Type="http://schemas.microsoft.com/office/2007/relationships/media" Target="file:///tmp/home/.config/libreoffice/4/user/gallery/elgetout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audio" Target="file:///tmp/home/.config/libreoffice/4/user/gallery/usetheforce.wav" TargetMode="External"/><Relationship Id="rId4" Type="http://schemas.microsoft.com/office/2007/relationships/media" Target="file:///tmp/home/.config/libreoffice/4/user/gallery/usetheforce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audio" Target="file:///usr/lib/libreoffice/share/gallery/sounds/laser.wav" TargetMode="External"/><Relationship Id="rId4" Type="http://schemas.microsoft.com/office/2007/relationships/media" Target="file:///usr/lib/libreoffice/share/gallery/sounds/laser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audio" Target="file:///tmp/home/.config/libreoffice/4/user/gallery/jamesbrw.wav" TargetMode="External"/><Relationship Id="rId4" Type="http://schemas.microsoft.com/office/2007/relationships/media" Target="file:///tmp/home/.config/libreoffice/4/user/gallery/jamesbrw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rregular Preterit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irregular verbs in the preterite.  In this presentation, we’ll take a look at the most important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16579_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1760760" cy="281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wo more ending in –S-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two more irregular preterite forms that both happen to end in –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 guesses as to what their forms 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bd06098_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416320" cy="304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71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uy bien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p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qu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j0078629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2919240" cy="2963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81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wo more ending in –J-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re irregular preterite forms that happen to end in –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d06665_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190008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5812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22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7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are these special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er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l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sotros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ellos tra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r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l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sotros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ellos dij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ding f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l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 is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er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–i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e01451_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2559240" cy="2136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542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c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él hi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hi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like the other irregular preterites, except it makes a spelling change i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c- &gt; hiz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d05961_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233028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4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75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5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about a two-for-on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4305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=   i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f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he same form for both verbs, and the endings are not identical to the other irregular preterite ver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bd06809_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19888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823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wo “kind of” irregular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   /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di / yo 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diste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v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dio / él v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dimos / v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dieron / v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previous presentation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ks in the same way, even though it’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bd06094_" descr=""/>
          <p:cNvPicPr/>
          <p:nvPr/>
        </p:nvPicPr>
        <p:blipFill>
          <a:blip r:embed="rId2"/>
          <a:stretch/>
        </p:blipFill>
        <p:spPr>
          <a:xfrm>
            <a:off x="1976400" y="1981080"/>
            <a:ext cx="1625760" cy="243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9718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61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3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ow!  That’s a lot to digest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it is.  So let’s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e02974_" descr=""/>
          <p:cNvPicPr/>
          <p:nvPr/>
        </p:nvPicPr>
        <p:blipFill>
          <a:blip r:embed="rId2"/>
          <a:stretch/>
        </p:blipFill>
        <p:spPr>
          <a:xfrm>
            <a:off x="1612800" y="1981080"/>
            <a:ext cx="2570400" cy="3048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205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7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l fin de seman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e, Teres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[tú] _______ (hacer) este fin de semana pas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hermana y yo _______ (ir) al c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r qué _______ (ir) ustedes all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 (querer) ver una p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cula.  ________ (ver) la nueva con Sean Conn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bd06201_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2233800" cy="2333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1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l fin de seman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e, Teres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cis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fin de semana pas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 hermana y y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r qué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tedes allí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s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 una p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cula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nueva con Sean Con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bd06201_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2233800" cy="2333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829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an you guess…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regular preteri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. Can you guess wha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b form might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otr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j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d06089_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28036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5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a visita al m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éd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3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a, Juan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de [tú] ______ (estar) ayer?  Yo no te _____ (ver) en la clase de con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 no _____ (poder) venir a clase porque ______ (tener) una fieb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ver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_____ (ir) al médico.  Él me ______ (poner) una inyección y me _______ (dar) una rece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rescription]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ués yo _____ (venir) a la escuela, pero ______ (llegar) muy tarde y no _______ (poder) entrar en la 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d06527_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2361960" cy="1543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8954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2322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a visita al m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éd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3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a, Juan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uv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yer?  Yo no 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clase de con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 n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nir a clase porque tuve una fiebre 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médico.  Él 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 inyección y 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 rece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ués y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escuela, per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legu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y tarde y n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ar en la 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bd06527_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2361960" cy="1543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81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216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3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 fiest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49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yer mi familia y yo ______ (tener) una fiesta especial para mi abuela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______ (cumplir) los 80 años, y muchos familia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elatives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 (venir) a la fiesta y le ______ (traer) regalos bonitos.  Todos le ______ (decir), “Felicidades” y le _____ (dar) abraz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ugs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d05413_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217008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9718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7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 fiest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49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yer mi familia y y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uvim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a fiesta especial para mi abuela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mpli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 80 años, y muchos familiar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ni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fiesta y 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j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alos bonitos.  Todos 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j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“Felicidades” y 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raz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bd05413_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21700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8195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2" dur="138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1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et’s wrap it up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99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regular preterite verbs that we have seen in this presenta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: di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r: dij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r: estuv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r: hi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: fu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r: p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er: pu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er: qu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er: su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: fu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er: tuv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er: traj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r: vi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: v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so02464_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1898640" cy="2133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7432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9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13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5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els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ings do not have accent ma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tuv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in mind special cases,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r, traer, ser, i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you can’t remember why these verbs are special, flip through the slides one mor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bd06089_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9718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68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9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on’t worry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tarts getting easier with the next verb set, #13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an00106_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2787480" cy="239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181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11917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¿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ómo te salió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e &gt; ve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vo &gt; 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imos &gt; tra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on &gt; van / 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rregular preterite forms resemble their present forms, while others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n00790_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527200" cy="263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07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learn the irregul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them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 first.  Start with these f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er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5378_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2711520" cy="1648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81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00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kay, now what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u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es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y, no accent mark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bd06223_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2781360" cy="278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767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10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ry one yourself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v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tuv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n00790_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2527560" cy="2635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54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’d you do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e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tu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n02131_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2335320" cy="2895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1240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75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75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75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75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75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25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84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7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ere’s another for good measure.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i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vin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06093_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35116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35268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59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’d you do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ir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otros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v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an02131_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2335320" cy="2895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8954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75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75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25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416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3:43:22Z</dcterms:created>
  <dc:creator>test</dc:creator>
  <dc:description/>
  <dc:language>en-US</dc:language>
  <cp:lastModifiedBy>Mike Robinson</cp:lastModifiedBy>
  <dcterms:modified xsi:type="dcterms:W3CDTF">2003-05-08T15:49:11Z</dcterms:modified>
  <cp:revision>12</cp:revision>
  <dc:subject/>
  <dc:title>Irregular Preterite</dc:title>
</cp:coreProperties>
</file>